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8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7.wmf" ContentType="image/x-wmf"/>
  <Override PartName="/ppt/media/image15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138120" y="8997840"/>
            <a:ext cx="8769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6C2EDF8-8915-4AD2-A3C8-0C8BA0CEC4D1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25080" y="717480"/>
            <a:ext cx="4700520" cy="3525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25440" y="717480"/>
            <a:ext cx="4700520" cy="35258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125360" y="4543200"/>
            <a:ext cx="4808880" cy="4251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a study of 20 projects in 13 organizations conducted in 2003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4456B825-231E-4F06-AB0A-9195262ED16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1D173758-15C2-4168-BBFC-05313030D5D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image" Target="../media/image27.wmf"/><Relationship Id="rId9" Type="http://schemas.openxmlformats.org/officeDocument/2006/relationships/image" Target="../media/image28.wmf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026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3" name="Text Box 1037"/>
          <p:cNvSpPr/>
          <p:nvPr/>
        </p:nvSpPr>
        <p:spPr>
          <a:xfrm>
            <a:off x="966960" y="1893960"/>
            <a:ext cx="7751520" cy="23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Module 4: Building Self-directed Teams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rocess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7360" y="1712520"/>
            <a:ext cx="3632040" cy="4589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200" bIns="52200" anchor="t">
            <a:normAutofit fontScale="98000"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rojects can start on any phase or cyc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hase or cycle starts with a launch or re-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rategy i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 in increme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multiple cyc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293760" indent="-18144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-ahea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permits whatever process structure makes the most business and technical sen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Oval 15"/>
          <p:cNvSpPr/>
          <p:nvPr/>
        </p:nvSpPr>
        <p:spPr>
          <a:xfrm>
            <a:off x="5648400" y="4338720"/>
            <a:ext cx="1447560" cy="53316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 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7210440" y="3195720"/>
            <a:ext cx="1306440" cy="1066680"/>
          </a:xfrm>
          <a:prstGeom prst="rect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has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or cycl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Oval 17"/>
          <p:cNvSpPr/>
          <p:nvPr/>
        </p:nvSpPr>
        <p:spPr>
          <a:xfrm>
            <a:off x="5915160" y="1900080"/>
            <a:ext cx="912600" cy="41940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47" name="AutoShape 18"/>
          <p:cNvCxnSpPr>
            <a:stCxn id="146" idx="6"/>
            <a:endCxn id="145" idx="0"/>
          </p:cNvCxnSpPr>
          <p:nvPr/>
        </p:nvCxnSpPr>
        <p:spPr>
          <a:xfrm>
            <a:off x="6827760" y="2109960"/>
            <a:ext cx="1037520" cy="108648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48" name="AutoShape 19"/>
          <p:cNvCxnSpPr>
            <a:stCxn id="145" idx="2"/>
            <a:endCxn id="144" idx="6"/>
          </p:cNvCxnSpPr>
          <p:nvPr/>
        </p:nvCxnSpPr>
        <p:spPr>
          <a:xfrm rot="5400000">
            <a:off x="7308000" y="4049280"/>
            <a:ext cx="34380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49" name="Oval 20"/>
          <p:cNvSpPr/>
          <p:nvPr/>
        </p:nvSpPr>
        <p:spPr>
          <a:xfrm>
            <a:off x="5840280" y="2662200"/>
            <a:ext cx="1065240" cy="4190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Re-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0" name="AutoShape 21"/>
          <p:cNvCxnSpPr>
            <a:stCxn id="144" idx="2"/>
            <a:endCxn id="149" idx="2"/>
          </p:cNvCxnSpPr>
          <p:nvPr/>
        </p:nvCxnSpPr>
        <p:spPr>
          <a:xfrm flipH="1" rot="10800000">
            <a:off x="5647320" y="2871000"/>
            <a:ext cx="192600" cy="1734480"/>
          </a:xfrm>
          <a:prstGeom prst="curvedConnector5">
            <a:avLst>
              <a:gd name="adj1" fmla="val -118913"/>
              <a:gd name="adj2" fmla="val 49989"/>
              <a:gd name="adj3" fmla="val -118913"/>
            </a:avLst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cxnSp>
        <p:nvCxnSpPr>
          <p:cNvPr id="151" name="AutoShape 22"/>
          <p:cNvCxnSpPr>
            <a:stCxn id="149" idx="6"/>
            <a:endCxn id="145" idx="0"/>
          </p:cNvCxnSpPr>
          <p:nvPr/>
        </p:nvCxnSpPr>
        <p:spPr>
          <a:xfrm>
            <a:off x="6905520" y="2871720"/>
            <a:ext cx="959760" cy="3247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  <p:sp>
        <p:nvSpPr>
          <p:cNvPr id="152" name="Oval 23"/>
          <p:cNvSpPr/>
          <p:nvPr/>
        </p:nvSpPr>
        <p:spPr>
          <a:xfrm>
            <a:off x="5648400" y="5234040"/>
            <a:ext cx="1447560" cy="5335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roje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c4052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53" name="AutoShape 24"/>
          <p:cNvCxnSpPr>
            <a:stCxn id="145" idx="2"/>
            <a:endCxn id="152" idx="6"/>
          </p:cNvCxnSpPr>
          <p:nvPr/>
        </p:nvCxnSpPr>
        <p:spPr>
          <a:xfrm rot="5400000">
            <a:off x="6860160" y="4497120"/>
            <a:ext cx="1239120" cy="769320"/>
          </a:xfrm>
          <a:prstGeom prst="curvedConnector2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826920"/>
            <a:ext cx="7421400" cy="56376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16080" y="1617840"/>
            <a:ext cx="18874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product and business goal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17520" y="3218040"/>
            <a:ext cx="18874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2.  Assign roles and define team goal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500200" y="1617840"/>
            <a:ext cx="198144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and near-term plan, estimate size, tasks, and resource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502000" y="3218040"/>
            <a:ext cx="19810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5.  Develop the quality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02000" y="4818240"/>
            <a:ext cx="1981080" cy="14475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6.  Assign resources, load balance, make personal plans, consolidate personal plans into team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4749840" y="1617840"/>
            <a:ext cx="18874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7.  Conduct risk assessment, create and assign risk mitigation plan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4749840" y="3218040"/>
            <a:ext cx="18874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8.  Prepare management briefing and launch report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858000" y="3218040"/>
            <a:ext cx="1981080" cy="137160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Launch postmortem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6858000" y="1617840"/>
            <a:ext cx="1981080" cy="137304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9.  Hold management review, negotiate and approve plan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317520" y="4818240"/>
            <a:ext cx="1887480" cy="1447560"/>
          </a:xfrm>
          <a:prstGeom prst="rect">
            <a:avLst/>
          </a:prstGeom>
          <a:solidFill>
            <a:srgbClr val="efede5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9536b"/>
                </a:solidFill>
                <a:latin typeface="Arial"/>
              </a:rPr>
              <a:t>3.  Produce development strategy and tailored proces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4952880" y="504684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qualified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6" name="AutoShape 14"/>
          <p:cNvCxnSpPr>
            <a:stCxn id="155" idx="2"/>
            <a:endCxn id="156" idx="0"/>
          </p:cNvCxnSpPr>
          <p:nvPr/>
        </p:nvCxnSpPr>
        <p:spPr>
          <a:xfrm>
            <a:off x="1260000" y="2990520"/>
            <a:ext cx="252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7" name="AutoShape 15"/>
          <p:cNvCxnSpPr>
            <a:stCxn id="156" idx="2"/>
            <a:endCxn id="164" idx="0"/>
          </p:cNvCxnSpPr>
          <p:nvPr/>
        </p:nvCxnSpPr>
        <p:spPr>
          <a:xfrm>
            <a:off x="1261800" y="4589280"/>
            <a:ext cx="1080" cy="22932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8" name="AutoShape 16"/>
          <p:cNvCxnSpPr>
            <a:stCxn id="157" idx="2"/>
            <a:endCxn id="158" idx="0"/>
          </p:cNvCxnSpPr>
          <p:nvPr/>
        </p:nvCxnSpPr>
        <p:spPr>
          <a:xfrm>
            <a:off x="3490920" y="2990520"/>
            <a:ext cx="216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9" name="AutoShape 17"/>
          <p:cNvCxnSpPr>
            <a:stCxn id="158" idx="2"/>
            <a:endCxn id="159" idx="0"/>
          </p:cNvCxnSpPr>
          <p:nvPr/>
        </p:nvCxnSpPr>
        <p:spPr>
          <a:xfrm>
            <a:off x="3492000" y="4589280"/>
            <a:ext cx="1080" cy="22932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0" name="AutoShape 18"/>
          <p:cNvCxnSpPr>
            <a:stCxn id="160" idx="2"/>
            <a:endCxn id="161" idx="0"/>
          </p:cNvCxnSpPr>
          <p:nvPr/>
        </p:nvCxnSpPr>
        <p:spPr>
          <a:xfrm>
            <a:off x="5694120" y="2990520"/>
            <a:ext cx="108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1" name="AutoShape 19"/>
          <p:cNvCxnSpPr>
            <a:stCxn id="163" idx="2"/>
            <a:endCxn id="162" idx="0"/>
          </p:cNvCxnSpPr>
          <p:nvPr/>
        </p:nvCxnSpPr>
        <p:spPr>
          <a:xfrm>
            <a:off x="7848360" y="2990520"/>
            <a:ext cx="1080" cy="227880"/>
          </a:xfrm>
          <a:prstGeom prst="straightConnector1">
            <a:avLst/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2" name="AutoShape 20"/>
          <p:cNvCxnSpPr>
            <a:stCxn id="164" idx="2"/>
            <a:endCxn id="157" idx="1"/>
          </p:cNvCxnSpPr>
          <p:nvPr/>
        </p:nvCxnSpPr>
        <p:spPr>
          <a:xfrm flipH="1" flipV="1" rot="5400000">
            <a:off x="-100080" y="3666240"/>
            <a:ext cx="3961080" cy="1238760"/>
          </a:xfrm>
          <a:prstGeom prst="bentConnector4">
            <a:avLst>
              <a:gd name="adj1" fmla="val -5771"/>
              <a:gd name="adj2" fmla="val 88052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3" name="AutoShape 21"/>
          <p:cNvCxnSpPr>
            <a:stCxn id="159" idx="2"/>
            <a:endCxn id="160" idx="1"/>
          </p:cNvCxnSpPr>
          <p:nvPr/>
        </p:nvCxnSpPr>
        <p:spPr>
          <a:xfrm flipH="1" flipV="1" rot="5400000">
            <a:off x="2139840" y="3656520"/>
            <a:ext cx="3961080" cy="1258200"/>
          </a:xfrm>
          <a:prstGeom prst="bentConnector4">
            <a:avLst>
              <a:gd name="adj1" fmla="val -5771"/>
              <a:gd name="adj2" fmla="val 89381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4" name="AutoShape 22"/>
          <p:cNvCxnSpPr>
            <a:stCxn id="161" idx="2"/>
            <a:endCxn id="163" idx="1"/>
          </p:cNvCxnSpPr>
          <p:nvPr/>
        </p:nvCxnSpPr>
        <p:spPr>
          <a:xfrm flipH="1" flipV="1" rot="5400000">
            <a:off x="5133600" y="2865240"/>
            <a:ext cx="2285280" cy="1164240"/>
          </a:xfrm>
          <a:prstGeom prst="bentConnector4">
            <a:avLst>
              <a:gd name="adj1" fmla="val -10004"/>
              <a:gd name="adj2" fmla="val 90442"/>
            </a:avLst>
          </a:prstGeom>
          <a:ln w="6480">
            <a:solidFill>
              <a:srgbClr val="39536b"/>
            </a:solidFill>
            <a:miter/>
            <a:tailEnd len="med" type="triangle" w="med"/>
          </a:ln>
        </p:spPr>
      </p:cxn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1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s what they want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 job is importa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s the team member’s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meeting 1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he team members to do this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at the team understands management’s criteria for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s 2 through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015560" y="17283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the TSP launch, 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process and strategy for doing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detailed team and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risks of their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heir plans to manag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and team leader have a great deal to do during the launch,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guided by a trained TSP coach to help them focus on building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out observ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unch meeting 9, the team presents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be the best plan that the team knows how to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mbers do not see how to meet management’s objectives, they present alternativ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’s responsibilities in meeting 9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the team’s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 plan’s accuracy and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ve the plan if it is sui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 (cont.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015560" y="1715760"/>
            <a:ext cx="7410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plans rarely meet all of management’s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is occurs, managers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most suitable alternat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other choices if no suitable plan is availabl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meeting’s conclusion,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how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ls the team its decis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ains why they made the deci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nks the team members for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Team Ope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the launch, the team does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s its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s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assesses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s to management on status and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onger jobs, TSP teams periodically relaunch their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e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028880" y="1727280"/>
            <a:ext cx="74102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can make detailed plans only for about three to six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er-range plans are rarely accurate enough to guide develop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launch is need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lan based on new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w detaile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unch is similar to the launch proces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7" descr="Microsoft"/>
          <p:cNvPicPr/>
          <p:nvPr/>
        </p:nvPicPr>
        <p:blipFill>
          <a:blip r:embed="rId1"/>
          <a:stretch/>
        </p:blipFill>
        <p:spPr>
          <a:xfrm>
            <a:off x="5681520" y="2270160"/>
            <a:ext cx="1190880" cy="7714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using, piloting, or preparing to pilot the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042920" y="2136600"/>
            <a:ext cx="2640240" cy="39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dvanced Information Service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MRDE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Bechtel-Betti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entre De Investigacion En Matamatica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ensus Bureau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un Microsystems/Cluster File System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omputing Technology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QG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CRSIP / STSC / DRAPER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avis System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EK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OE / Los Alamo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OE / Naval Reactor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PC Cirru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Dynamics Research Corp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DS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Evince Medi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BM Japa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BM Mexico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dea Entity Corporatio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Intui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aitatsu, Ltd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PMG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Kyushu Institute of Technolog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Los Alamos National Laborator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3736800" y="2144880"/>
            <a:ext cx="2399040" cy="37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/A-Com Private Radio Systems, Inc.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agelle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icrosof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Motiv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SA Langle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VAIR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AVOCEANO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NCS Pearson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Prodigia S.A. de C.V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PS&amp;J Consulting - Software Six Sigma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QuarkSoft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AI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andia National Laboratories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ftek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TPP, Inc.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TSC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Tec de Monterre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sino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versity of Alabama / Huntsville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University of Queensland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Activision/Vicarious Visions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2" name="Picture 8" descr="Oracle"/>
          <p:cNvPicPr/>
          <p:nvPr/>
        </p:nvPicPr>
        <p:blipFill>
          <a:blip r:embed="rId2"/>
          <a:stretch/>
        </p:blipFill>
        <p:spPr>
          <a:xfrm>
            <a:off x="6215040" y="2955960"/>
            <a:ext cx="1190520" cy="9619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intuit"/>
          <p:cNvPicPr/>
          <p:nvPr/>
        </p:nvPicPr>
        <p:blipFill>
          <a:blip r:embed="rId3"/>
          <a:stretch/>
        </p:blipFill>
        <p:spPr>
          <a:xfrm>
            <a:off x="7281720" y="3413160"/>
            <a:ext cx="1524240" cy="1257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adobe"/>
          <p:cNvPicPr/>
          <p:nvPr/>
        </p:nvPicPr>
        <p:blipFill>
          <a:blip r:embed="rId4"/>
          <a:stretch/>
        </p:blipFill>
        <p:spPr>
          <a:xfrm>
            <a:off x="7586640" y="2422440"/>
            <a:ext cx="762120" cy="9241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ibm"/>
          <p:cNvPicPr/>
          <p:nvPr/>
        </p:nvPicPr>
        <p:blipFill>
          <a:blip r:embed="rId5"/>
          <a:stretch/>
        </p:blipFill>
        <p:spPr>
          <a:xfrm>
            <a:off x="6062760" y="4175280"/>
            <a:ext cx="1190520" cy="780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sun microsystems"/>
          <p:cNvPicPr/>
          <p:nvPr/>
        </p:nvPicPr>
        <p:blipFill>
          <a:blip r:embed="rId6"/>
          <a:stretch/>
        </p:blipFill>
        <p:spPr>
          <a:xfrm>
            <a:off x="7358040" y="4861080"/>
            <a:ext cx="1619280" cy="714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vicarious visions"/>
          <p:cNvPicPr/>
          <p:nvPr/>
        </p:nvPicPr>
        <p:blipFill>
          <a:blip r:embed="rId7"/>
          <a:stretch/>
        </p:blipFill>
        <p:spPr>
          <a:xfrm>
            <a:off x="6138720" y="5318280"/>
            <a:ext cx="119088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019160" y="1474920"/>
          <a:ext cx="7413480" cy="3930480"/>
        </p:xfrm>
        <a:graphic>
          <a:graphicData uri="http://schemas.openxmlformats.org/drawingml/2006/table">
            <a:tbl>
              <a:tblPr/>
              <a:tblGrid>
                <a:gridCol w="1766880"/>
                <a:gridCol w="1981080"/>
                <a:gridCol w="3665520"/>
              </a:tblGrid>
              <a:tr h="869040"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tIns="2743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Impact Study (2003)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45720" rIns="457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ical Industry Performanc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Standish Group)**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45720" marR="4572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144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avera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1530000"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error ran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82880" rIns="182880" tIns="182880" bIns="18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0% to +27%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82880" marR="18288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0" name="Text Box 29"/>
          <p:cNvSpPr/>
          <p:nvPr/>
        </p:nvSpPr>
        <p:spPr>
          <a:xfrm>
            <a:off x="1121760" y="5765760"/>
            <a:ext cx="51253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 From a study of 20 projects in 13 organizations conducted in 2003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** Of the unsuccessful projects, average schedule error was 222%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2" name="Picture 222" descr=""/>
          <p:cNvPicPr/>
          <p:nvPr/>
        </p:nvPicPr>
        <p:blipFill>
          <a:blip r:embed="rId1"/>
          <a:stretch/>
        </p:blipFill>
        <p:spPr>
          <a:xfrm>
            <a:off x="4791240" y="2506680"/>
            <a:ext cx="3630600" cy="24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Summa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044720" y="1511280"/>
            <a:ext cx="6964200" cy="43624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3"/>
          <p:cNvSpPr/>
          <p:nvPr/>
        </p:nvSpPr>
        <p:spPr>
          <a:xfrm>
            <a:off x="1086840" y="6080040"/>
            <a:ext cx="252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147760" y="2181240"/>
            <a:ext cx="276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Performance Comparis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762120" y="1574640"/>
            <a:ext cx="413064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rom a study published in 2000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fifteen projects in four organizatio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MM ML1, ML2, ML3, and ML5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SP improved effort and schedule predictability at all maturity levels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809640" y="4564080"/>
          <a:ext cx="3622680" cy="993600"/>
        </p:xfrm>
        <a:graphic>
          <a:graphicData uri="http://schemas.openxmlformats.org/drawingml/2006/table">
            <a:tbl>
              <a:tblPr/>
              <a:tblGrid>
                <a:gridCol w="1969920"/>
                <a:gridCol w="1652760"/>
              </a:tblGrid>
              <a:tr h="331560">
                <a:tc gridSpan="2">
                  <a:txBody>
                    <a:bodyPr lIns="102600" rIns="102600" tIns="51480" bIns="51480" anchor="t">
                      <a:noAutofit/>
                    </a:bodyPr>
                    <a:p>
                      <a:pPr algn="ctr"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chedule Performanc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udy baselin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+27% to +112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8% to +20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808200" y="3411360"/>
          <a:ext cx="3622680" cy="993960"/>
        </p:xfrm>
        <a:graphic>
          <a:graphicData uri="http://schemas.openxmlformats.org/drawingml/2006/table">
            <a:tbl>
              <a:tblPr/>
              <a:tblGrid>
                <a:gridCol w="1971360"/>
                <a:gridCol w="1651320"/>
              </a:tblGrid>
              <a:tr h="331560">
                <a:tc gridSpan="2">
                  <a:txBody>
                    <a:bodyPr lIns="102600" rIns="102600" tIns="51480" bIns="51480" anchor="t">
                      <a:noAutofit/>
                    </a:bodyPr>
                    <a:p>
                      <a:pPr algn="ctr"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ffort (Cost) Performanc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udy baseline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+17% to +85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331560"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t">
                      <a:noAutofit/>
                    </a:bodyPr>
                    <a:p>
                      <a:pPr>
                        <a:spcAft>
                          <a:spcPts val="938"/>
                        </a:spcAft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5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5% to +25%</a:t>
                      </a:r>
                      <a:endParaRPr b="0" lang="en-US" sz="15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102600" marR="1026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" name="Picture 46" descr=""/>
          <p:cNvPicPr/>
          <p:nvPr/>
        </p:nvPicPr>
        <p:blipFill>
          <a:blip r:embed="rId1"/>
          <a:stretch/>
        </p:blipFill>
        <p:spPr>
          <a:xfrm>
            <a:off x="4637160" y="1405080"/>
            <a:ext cx="4168800" cy="26463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4" descr=""/>
          <p:cNvPicPr/>
          <p:nvPr/>
        </p:nvPicPr>
        <p:blipFill>
          <a:blip r:embed="rId2"/>
          <a:stretch/>
        </p:blipFill>
        <p:spPr>
          <a:xfrm>
            <a:off x="4640400" y="3981600"/>
            <a:ext cx="4168800" cy="2646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7"/>
          <p:cNvSpPr/>
          <p:nvPr/>
        </p:nvSpPr>
        <p:spPr>
          <a:xfrm>
            <a:off x="905040" y="626112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urce: CMU/SEI-TR-2000-01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ays Off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5" name="Picture 10" descr=""/>
          <p:cNvPicPr/>
          <p:nvPr/>
        </p:nvPicPr>
        <p:blipFill>
          <a:blip r:embed="rId1"/>
          <a:stretch/>
        </p:blipFill>
        <p:spPr>
          <a:xfrm>
            <a:off x="351000" y="1508040"/>
            <a:ext cx="8726400" cy="45864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"/>
          <p:cNvSpPr/>
          <p:nvPr/>
        </p:nvSpPr>
        <p:spPr>
          <a:xfrm>
            <a:off x="1009080" y="6216480"/>
            <a:ext cx="2528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06120" y="83952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dictable Schedu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515880" y="1565280"/>
            <a:ext cx="8381880" cy="48340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4357440" y="2773440"/>
            <a:ext cx="148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M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6645600" y="3611520"/>
            <a:ext cx="139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P introduce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Line 6"/>
          <p:cNvSpPr/>
          <p:nvPr/>
        </p:nvSpPr>
        <p:spPr>
          <a:xfrm flipH="1">
            <a:off x="4141440" y="3000240"/>
            <a:ext cx="228600" cy="15408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Line 7"/>
          <p:cNvSpPr/>
          <p:nvPr/>
        </p:nvSpPr>
        <p:spPr>
          <a:xfrm flipH="1">
            <a:off x="6428880" y="3838680"/>
            <a:ext cx="228600" cy="153720"/>
          </a:xfrm>
          <a:prstGeom prst="line">
            <a:avLst/>
          </a:prstGeom>
          <a:ln w="12600">
            <a:solidFill>
              <a:srgbClr val="96969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1029960" y="6342120"/>
            <a:ext cx="1177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680" rIns="103680" tIns="51840" bIns="51840" anchor="t">
            <a:spAutoFit/>
          </a:bodyPr>
          <a:p>
            <a:pPr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[Source: AIS]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9480" y="826920"/>
            <a:ext cx="741996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uit Quality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457200" y="1531800"/>
            <a:ext cx="853452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duced defects found in system test by 60% over the previous two releases of QuickBooks 2007 rele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uit reported a savings of $20M from a reduction in customer support calls on QuickBooks 200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SP, Intuit’s 2007 release of QuickBooks met every major milestone and delivered 33% more functionality than plan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061760" y="3697200"/>
            <a:ext cx="1108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Source: Intui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2187720" y="2168640"/>
            <a:ext cx="4524120" cy="30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729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icrosoft Schedule Improv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time TSP projects at Microsoft had a 10 times better mean schedule error than traditional projects at Microsoft as reflected in the following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378000" y="2989440"/>
          <a:ext cx="8454960" cy="1528560"/>
        </p:xfrm>
        <a:graphic>
          <a:graphicData uri="http://schemas.openxmlformats.org/drawingml/2006/table">
            <a:tbl>
              <a:tblPr/>
              <a:tblGrid>
                <a:gridCol w="3430440"/>
                <a:gridCol w="2803320"/>
                <a:gridCol w="222120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Microsoft Schedule Resul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Non-TSP Projec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Project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leased on Tim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6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verage Days Lat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an Schedule Error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%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ample Siz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1" name="Text Box 4"/>
          <p:cNvSpPr/>
          <p:nvPr/>
        </p:nvSpPr>
        <p:spPr>
          <a:xfrm>
            <a:off x="1110960" y="6353280"/>
            <a:ext cx="139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 algn="ct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Source: Microsof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rs Like T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471600" y="2081160"/>
            <a:ext cx="8437320" cy="42642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603360" y="142092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ments below from managers and developers describe their experience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5" name="Picture 6" descr=""/>
          <p:cNvPicPr/>
          <p:nvPr/>
        </p:nvPicPr>
        <p:blipFill>
          <a:blip r:embed="rId1"/>
          <a:stretch/>
        </p:blipFill>
        <p:spPr>
          <a:xfrm>
            <a:off x="568440" y="2187720"/>
            <a:ext cx="2232000" cy="439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"/>
          <p:cNvPicPr/>
          <p:nvPr/>
        </p:nvPicPr>
        <p:blipFill>
          <a:blip r:embed="rId2"/>
          <a:stretch/>
        </p:blipFill>
        <p:spPr>
          <a:xfrm>
            <a:off x="568440" y="2714760"/>
            <a:ext cx="2239920" cy="17348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"/>
          <p:cNvPicPr/>
          <p:nvPr/>
        </p:nvPicPr>
        <p:blipFill>
          <a:blip r:embed="rId3"/>
          <a:srcRect l="0" t="0" r="2020" b="0"/>
          <a:stretch/>
        </p:blipFill>
        <p:spPr>
          <a:xfrm>
            <a:off x="3567240" y="2182680"/>
            <a:ext cx="2165400" cy="13543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"/>
          <p:cNvPicPr/>
          <p:nvPr/>
        </p:nvPicPr>
        <p:blipFill>
          <a:blip r:embed="rId4"/>
          <a:srcRect l="0" t="0" r="3617" b="0"/>
          <a:stretch/>
        </p:blipFill>
        <p:spPr>
          <a:xfrm>
            <a:off x="6543720" y="4179960"/>
            <a:ext cx="2158920" cy="2066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1" descr=""/>
          <p:cNvPicPr/>
          <p:nvPr/>
        </p:nvPicPr>
        <p:blipFill>
          <a:blip r:embed="rId5"/>
          <a:stretch/>
        </p:blipFill>
        <p:spPr>
          <a:xfrm>
            <a:off x="568440" y="4548240"/>
            <a:ext cx="2209680" cy="1712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2" descr=""/>
          <p:cNvPicPr/>
          <p:nvPr/>
        </p:nvPicPr>
        <p:blipFill>
          <a:blip r:embed="rId6"/>
          <a:srcRect l="0" t="0" r="2020" b="0"/>
          <a:stretch/>
        </p:blipFill>
        <p:spPr>
          <a:xfrm>
            <a:off x="3568680" y="3618000"/>
            <a:ext cx="2165400" cy="1231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7"/>
          <a:stretch/>
        </p:blipFill>
        <p:spPr>
          <a:xfrm>
            <a:off x="3568680" y="5807160"/>
            <a:ext cx="2152800" cy="439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4" descr=""/>
          <p:cNvPicPr/>
          <p:nvPr/>
        </p:nvPicPr>
        <p:blipFill>
          <a:blip r:embed="rId8"/>
          <a:srcRect l="0" t="0" r="-719" b="0"/>
          <a:stretch/>
        </p:blipFill>
        <p:spPr>
          <a:xfrm>
            <a:off x="3568680" y="4964040"/>
            <a:ext cx="2168640" cy="698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9"/>
          <a:srcRect l="0" t="0" r="5603" b="0"/>
          <a:stretch/>
        </p:blipFill>
        <p:spPr>
          <a:xfrm>
            <a:off x="6543720" y="2195640"/>
            <a:ext cx="2141640" cy="1093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6" descr=""/>
          <p:cNvPicPr/>
          <p:nvPr/>
        </p:nvPicPr>
        <p:blipFill>
          <a:blip r:embed="rId10"/>
          <a:stretch/>
        </p:blipFill>
        <p:spPr>
          <a:xfrm>
            <a:off x="6543720" y="3360600"/>
            <a:ext cx="2152440" cy="73512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7"/>
          <p:cNvSpPr/>
          <p:nvPr/>
        </p:nvSpPr>
        <p:spPr>
          <a:xfrm>
            <a:off x="513000" y="6343560"/>
            <a:ext cx="1969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Arial"/>
              </a:rPr>
              <a:t>Source: CMU/SEI-TR-2003-014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015920" y="1715760"/>
            <a:ext cx="76644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elf-directed teams, th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ir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oluntarily commit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9080" y="864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A Software Product is a Team Effor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03240" y="1738080"/>
            <a:ext cx="3632400" cy="4521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products are made from software modules or compon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modules are designed, built, integrated, and tested by a team of software develop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’s skills, spirit, discipline, and commitment govern the resul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rcRect l="4179" t="-1715" r="3920" b="-56"/>
          <a:stretch/>
        </p:blipFill>
        <p:spPr>
          <a:xfrm>
            <a:off x="4638600" y="1749600"/>
            <a:ext cx="3772080" cy="27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ccessful Team Practi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730520"/>
            <a:ext cx="741024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velopment teams work well, they generally have successful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successful, team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ea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d-upo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also must be motivated and personally commit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these, teams will rarely be success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09" name="Group 27"/>
          <p:cNvGrpSpPr/>
          <p:nvPr/>
        </p:nvGrpSpPr>
        <p:grpSpPr>
          <a:xfrm>
            <a:off x="1231920" y="2181240"/>
            <a:ext cx="2146320" cy="1752480"/>
            <a:chOff x="1231920" y="2181240"/>
            <a:chExt cx="2146320" cy="1752480"/>
          </a:xfrm>
        </p:grpSpPr>
        <p:sp>
          <p:nvSpPr>
            <p:cNvPr id="110" name="Oval 4"/>
            <p:cNvSpPr/>
            <p:nvPr/>
          </p:nvSpPr>
          <p:spPr>
            <a:xfrm>
              <a:off x="2014560" y="21812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Oval 5"/>
            <p:cNvSpPr/>
            <p:nvPr/>
          </p:nvSpPr>
          <p:spPr>
            <a:xfrm>
              <a:off x="123192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18111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3" name="Oval 7"/>
            <p:cNvSpPr/>
            <p:nvPr/>
          </p:nvSpPr>
          <p:spPr>
            <a:xfrm>
              <a:off x="239076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4" name="Oval 8"/>
            <p:cNvSpPr/>
            <p:nvPr/>
          </p:nvSpPr>
          <p:spPr>
            <a:xfrm>
              <a:off x="2971800" y="3563640"/>
              <a:ext cx="406440" cy="3700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15" name="AutoShape 9"/>
            <p:cNvCxnSpPr>
              <a:stCxn id="110" idx="4"/>
              <a:endCxn id="111" idx="7"/>
            </p:cNvCxnSpPr>
            <p:nvPr/>
          </p:nvCxnSpPr>
          <p:spPr>
            <a:xfrm flipH="1">
              <a:off x="1579680" y="2550600"/>
              <a:ext cx="63828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6" name="AutoShape 10"/>
            <p:cNvCxnSpPr>
              <a:stCxn id="110" idx="4"/>
              <a:endCxn id="112" idx="0"/>
            </p:cNvCxnSpPr>
            <p:nvPr/>
          </p:nvCxnSpPr>
          <p:spPr>
            <a:xfrm flipH="1">
              <a:off x="2014200" y="2550600"/>
              <a:ext cx="20376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7" name="AutoShape 11"/>
            <p:cNvCxnSpPr>
              <a:stCxn id="110" idx="4"/>
              <a:endCxn id="113" idx="0"/>
            </p:cNvCxnSpPr>
            <p:nvPr/>
          </p:nvCxnSpPr>
          <p:spPr>
            <a:xfrm>
              <a:off x="2217240" y="2550600"/>
              <a:ext cx="376920" cy="1013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18" name="AutoShape 12"/>
            <p:cNvCxnSpPr>
              <a:stCxn id="110" idx="4"/>
              <a:endCxn id="114" idx="1"/>
            </p:cNvCxnSpPr>
            <p:nvPr/>
          </p:nvCxnSpPr>
          <p:spPr>
            <a:xfrm>
              <a:off x="2217600" y="2550600"/>
              <a:ext cx="813600" cy="106740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grpSp>
        <p:nvGrpSpPr>
          <p:cNvPr id="119" name="Group 28"/>
          <p:cNvGrpSpPr/>
          <p:nvPr/>
        </p:nvGrpSpPr>
        <p:grpSpPr>
          <a:xfrm>
            <a:off x="4788000" y="1913040"/>
            <a:ext cx="2654280" cy="2611440"/>
            <a:chOff x="4788000" y="1913040"/>
            <a:chExt cx="2654280" cy="2611440"/>
          </a:xfrm>
        </p:grpSpPr>
        <p:sp>
          <p:nvSpPr>
            <p:cNvPr id="120" name="Oval 22"/>
            <p:cNvSpPr/>
            <p:nvPr/>
          </p:nvSpPr>
          <p:spPr>
            <a:xfrm>
              <a:off x="4876920" y="2098800"/>
              <a:ext cx="2489040" cy="242568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4"/>
            <p:cNvSpPr/>
            <p:nvPr/>
          </p:nvSpPr>
          <p:spPr>
            <a:xfrm>
              <a:off x="478800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Oval 15"/>
            <p:cNvSpPr/>
            <p:nvPr/>
          </p:nvSpPr>
          <p:spPr>
            <a:xfrm>
              <a:off x="519444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Oval 16"/>
            <p:cNvSpPr/>
            <p:nvPr/>
          </p:nvSpPr>
          <p:spPr>
            <a:xfrm>
              <a:off x="6680160" y="4103640"/>
              <a:ext cx="406440" cy="370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Oval 18"/>
            <p:cNvSpPr/>
            <p:nvPr/>
          </p:nvSpPr>
          <p:spPr>
            <a:xfrm>
              <a:off x="5918040" y="1913040"/>
              <a:ext cx="406440" cy="36972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Oval 17"/>
            <p:cNvSpPr/>
            <p:nvPr/>
          </p:nvSpPr>
          <p:spPr>
            <a:xfrm>
              <a:off x="7035840" y="2722680"/>
              <a:ext cx="406440" cy="36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126" name="Text Box 25"/>
          <p:cNvSpPr/>
          <p:nvPr/>
        </p:nvSpPr>
        <p:spPr>
          <a:xfrm>
            <a:off x="906120" y="4919760"/>
            <a:ext cx="292968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Traditional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eader plans, directs,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tracks the team’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4894560" y="4919760"/>
            <a:ext cx="34527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Self-directed team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particip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planning, managing,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cking their own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f-directed Team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attacking important proble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ggressive but realistic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to defined plans and process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killed and trained for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their roles and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personally committed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the team members are in control of their own work, they are motivated to do a superior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builds self-direct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Self-direct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28520" y="2212920"/>
            <a:ext cx="2757240" cy="16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f-directed teams must be buil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a team-building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14560" y="4527720"/>
            <a:ext cx="4980240" cy="129348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emb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535200" y="3240000"/>
            <a:ext cx="4359600" cy="1293840"/>
          </a:xfrm>
          <a:prstGeom prst="rect">
            <a:avLst/>
          </a:prstGeom>
          <a:solidFill>
            <a:srgbClr val="87abb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Buil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3924360" y="1952640"/>
            <a:ext cx="3970440" cy="129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54080" rIns="102600" tIns="51480" bIns="51480" anchor="ctr">
            <a:no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efede5"/>
                </a:solidFill>
                <a:latin typeface="Arial"/>
              </a:rPr>
              <a:t>Manag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884840" y="4678200"/>
            <a:ext cx="30240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cess discipli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erformance measure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Estimating &amp; planning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Quality management skill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4970520" y="3376440"/>
            <a:ext cx="28321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Goal sett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ole assignmen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ailored team proces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Detailed and balanced pla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723280" y="2025720"/>
            <a:ext cx="21250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mmunic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Team coordin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Project tracking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fede5"/>
                </a:solidFill>
                <a:latin typeface="Arial"/>
              </a:rPr>
              <a:t>Risk analysi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 rot="16200000">
            <a:off x="8047440" y="4892040"/>
            <a:ext cx="71028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 rot="16200000">
            <a:off x="8054280" y="2842200"/>
            <a:ext cx="696600" cy="4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200" spc="-1" strike="noStrike">
                <a:solidFill>
                  <a:srgbClr val="39536b"/>
                </a:solidFill>
                <a:latin typeface="Arial Black"/>
              </a:rPr>
              <a:t>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28880" y="1726920"/>
            <a:ext cx="7067520" cy="46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TSP team-building process,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ir own goals and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ir own strategies and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ir product developmen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nd their plans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wn their own processe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y their goals are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voluntarily committed to their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lieve that their commitments are achiev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articipate in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8:33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9Z</dcterms:modified>
  <cp:revision>39</cp:revision>
  <dc:subject>24 July 2001 / 3:30pm</dc:subject>
  <dc:title>PowerPoint Presentation</dc:title>
</cp:coreProperties>
</file>